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51C-B972-4C9C-B814-5524E193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55B-27DD-40CF-8CFD-EB8BAC53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2EB-C089-4E89-9844-A905D4C0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A21-3BE4-4B90-B76A-66B3EC37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523-26F3-40D9-88C5-26F606B7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336-DE16-4939-8664-BD285EA2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B59-93D0-41B3-923D-72A3B880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5B3-A2DD-4F54-B51E-BB275EC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7EB-F4EA-435F-9997-BCAD416C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6E0-7A44-46D4-B8E4-067EC75E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E6F-D01D-4FA9-BCF3-FAB7BF63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569-A837-4E08-995F-35F57F5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1D92-956A-45F0-B33D-9C504C56A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u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 He  was a tall man.  He was born on February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good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21680" y="5692680"/>
            <a:ext cx="182232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692680"/>
            <a:ext cx="1822320" cy="116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21680" y="228600"/>
            <a:ext cx="1822320" cy="116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223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67480" y="2895480"/>
            <a:ext cx="1428840" cy="1770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had three sons 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 past infancy shown Will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, and Tad .Only Robert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dulth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2920" y="5410080"/>
            <a:ext cx="1822320" cy="116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467480" y="380880"/>
            <a:ext cx="147636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103644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9:39:41Z</dcterms:created>
  <dc:creator>smuser</dc:creator>
  <dc:description/>
  <dc:language>en-US</dc:language>
  <cp:lastModifiedBy>smuser</cp:lastModifiedBy>
  <dcterms:modified xsi:type="dcterms:W3CDTF">2010-02-03T19:14:29Z</dcterms:modified>
  <cp:revision>6</cp:revision>
  <dc:subject/>
  <dc:title>Comparing Presidents</dc:title>
</cp:coreProperties>
</file>